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42D4-17B5-4A10-9442-A88E15B6D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EAD2-FFCF-4D27-851E-5418FEF3A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CEE2-F656-4CE3-BF70-68F85EB40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0CC9B-D2FC-4DBF-BFAA-074DFBD2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76E99-01D1-41C5-95CD-498663729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2B5A7-844A-4BDF-AB6A-DBABC6E6E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1169-E3F4-474F-9D2F-17EC16868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28AEB-228E-459F-8EFB-3A766616B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7565-81DA-4C7C-9A3C-388462DA5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1130-12BF-4880-8980-DFF6A43E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2E1A1-A638-4519-A74D-82617193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BE04-B389-4B6F-8B23-CCA5279C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FACC-B922-40C4-A158-AA03BEEE8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53A9-DE17-4D32-9C5C-0F45BFE47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8DD7-F81D-4AAC-A684-E050EBECAD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 Review</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Ottolini, PreAP B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ich variable in an experiment is located on the y axis of a graph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ich variable in an experiment is located on the y axis of a graph (the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ich group in an experiment is used for comparison, and not experimented wi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ich group in an experiment is used for comparison, and does not receive the independent vari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trol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85800"/>
            <a:ext cx="8229600" cy="58672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Match the following parts of an experiment with the correct example: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nclu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 You record how far you can run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your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Hypothe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You state that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are the best brand based 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your observations of peopl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ng distances in Nik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bserv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You predict that you be able t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un 5 miles longer in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than in Adidas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nfere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You determine that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are the best after analyzing you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85800"/>
            <a:ext cx="8229600" cy="58672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Match the following parts of an experiment with the correct example: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Conclusion</a:t>
            </a:r>
            <a:r>
              <a:rPr b="0" lang="en-US" sz="1600" spc="-1" strike="noStrike">
                <a:solidFill>
                  <a:srgbClr val="ff0000"/>
                </a:solidFill>
                <a:latin typeface="Arial"/>
              </a:rPr>
              <a:t>	</a:t>
            </a:r>
            <a:r>
              <a:rPr b="0" lang="en-US" sz="1600" spc="-1" strike="noStrike">
                <a:solidFill>
                  <a:srgbClr val="00000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a. You record how far you can run in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your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2. Hypothe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7030a0"/>
                </a:solidFill>
                <a:latin typeface="Arial"/>
              </a:rPr>
              <a:t>b. You state that Nike running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shoes are the best brand based on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your observations of people running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long distances in Nik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3. Observ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b050"/>
                </a:solidFill>
                <a:latin typeface="Arial"/>
              </a:rPr>
              <a:t>c. You predict that you be able to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run 5 miles longer in Nike running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shoes than in Adidas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4. Inference</a:t>
            </a:r>
            <a:r>
              <a:rPr b="0" lang="en-US" sz="1600" spc="-1" strike="noStrike">
                <a:solidFill>
                  <a:srgbClr val="7030a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d. You determine that Nike running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hoes are the best after analyzing you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re is a bowl of cheerios sitting on Miss Ottolini’s desk at home.  Which of the following statements about the cheerios is an inference instead of an observat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ss Ottolini notices that there is a spoon sitting in the bowl.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iss Ottolini mentions that the milk in the bowl smells like spoiled milk.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iss Ottolini supposes that the cheerios have been sitting on her desk for quite a while. </a:t>
            </a:r>
            <a:endParaRPr b="0" lang="en-US" sz="2400" spc="-1" strike="noStrike">
              <a:solidFill>
                <a:srgbClr val="000000"/>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iss Ottolini states that the cheerios are “puff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re is a bowl of cheerios sitting on Miss Ottolini’s desk at home.  Which of the following statements about the cheerios is an inference instead of an observat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ss Ottolini notices that there is a spoon sitting in the bowl.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iss Ottolini mentions that the milk in the bowl smells like spoiled milk.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ff0000"/>
                </a:solidFill>
                <a:latin typeface="Arial"/>
              </a:rPr>
              <a:t>. Miss Ottolini supposes that the cheerios have been sitting on her desk for quite a while. </a:t>
            </a:r>
            <a:endParaRPr b="0" lang="en-US" sz="2400" spc="-1" strike="noStrike">
              <a:solidFill>
                <a:srgbClr val="000000"/>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iss Ottolini states that the cheerios are “puff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80880"/>
            <a:ext cx="8229600" cy="4525920"/>
          </a:xfrm>
          <a:prstGeom prst="rect">
            <a:avLst/>
          </a:prstGeom>
          <a:noFill/>
          <a:ln w="0">
            <a:noFill/>
          </a:ln>
        </p:spPr>
        <p:txBody>
          <a:bodyPr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hich of the following is a likely topic in a biology course?</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hy does the Texas horned lizard squirt blood out of its eye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How is a banded pipefish able to hide in its environment of seaweed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hat chemicals cause plant stems to lengthen or flowers to bloom?</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How did the Grand Canyon form?</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 and B</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 B, and C</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All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4525920"/>
          </a:xfrm>
          <a:prstGeom prst="rect">
            <a:avLst/>
          </a:prstGeom>
          <a:noFill/>
          <a:ln w="0">
            <a:noFill/>
          </a:ln>
        </p:spPr>
        <p:txBody>
          <a:bodyPr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hich of the following is a likely topic in a biology course?</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hy does the Texas horned lizard squirt blood out of its eye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How is a banded pipefish able to hide in its environment of seaweed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hat chemicals cause plant stems to lengthen or flowers to bloom?</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How did the Grand Canyon form?</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 and B</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f.  A, B, and C</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All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305920" cy="617220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lace the following steps of the scientific method in the proper order: (number 1-6) (</a:t>
            </a:r>
            <a:r>
              <a:rPr b="0" i="1" lang="en-US" sz="3200" spc="-1" strike="noStrike">
                <a:solidFill>
                  <a:srgbClr val="000000"/>
                </a:solidFill>
                <a:latin typeface="Arial"/>
              </a:rPr>
              <a:t>Hint: these steps may look a little different than the steps that we discussed in class)</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Ask questions/mak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bservations/identify a problem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Analyze data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Make conclusions</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Design an experiment</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Make a hypothesis </a:t>
            </a:r>
            <a:endParaRPr b="0" lang="en-US" sz="2800" spc="-1" strike="noStrike">
              <a:solidFill>
                <a:srgbClr val="000000"/>
              </a:solidFill>
              <a:latin typeface="Arial"/>
            </a:endParaRPr>
          </a:p>
          <a:p>
            <a:pPr lvl="1" marL="960840" indent="-51732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Gather and record dat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ich of the following is an observ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You record the air temperature every day for a wee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You propose that a cold front is approach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You hypothesize that the temperature will increase tomorro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You conclude that the season is chan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ich of the following is an observ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a. You record the air temperature every day for a week.</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You propose that a cold front is approach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You hypothesize that the temperature will increase tomorro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You conclude that the season is chan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hich is an infer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You measure a plant’s height every day for a we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You give a plant the same amount of water every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Every day for a week, you collect data on a plant’s move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fter watching a plant for a week, you suppose that it needs more sun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hich is an infer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You measure a plant’s height every day for a we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You give a plant the same amount of water every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Every day for a week, you collect data on a plant’s move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t>
            </a:r>
            <a:r>
              <a:rPr b="0" lang="en-US" sz="2400" spc="-1" strike="noStrike">
                <a:solidFill>
                  <a:srgbClr val="ff0000"/>
                </a:solidFill>
                <a:latin typeface="Arial"/>
              </a:rPr>
              <a:t>After watching a plant for a week, you suppose that it needs more sun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Tasha is testing the effect of blue-colored light on the growth of tomato plants. Which is the independent variable in this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ght col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amount of ligh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 intensity</a:t>
            </a:r>
            <a:r>
              <a:rPr b="0" lang="en-US" sz="3200" spc="-1" strike="noStrike">
                <a:solidFill>
                  <a:srgbClr val="000000"/>
                </a:solidFill>
                <a:latin typeface="Arial"/>
              </a:rPr>
              <a:t>	</a:t>
            </a:r>
            <a:r>
              <a:rPr b="0" lang="en-US" sz="3200" spc="-1" strike="noStrike">
                <a:solidFill>
                  <a:srgbClr val="000000"/>
                </a:solidFill>
                <a:latin typeface="Arial"/>
              </a:rPr>
              <a:t>d. temperature of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Tasha is testing the effect of blue-colored light on the growth of tomato plants. Which is the independent variable in this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light col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amount of ligh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 intensity</a:t>
            </a:r>
            <a:r>
              <a:rPr b="0" lang="en-US" sz="3200" spc="-1" strike="noStrike">
                <a:solidFill>
                  <a:srgbClr val="000000"/>
                </a:solidFill>
                <a:latin typeface="Arial"/>
              </a:rPr>
              <a:t>	</a:t>
            </a:r>
            <a:r>
              <a:rPr b="0" lang="en-US" sz="3200" spc="-1" strike="noStrike">
                <a:solidFill>
                  <a:srgbClr val="000000"/>
                </a:solidFill>
                <a:latin typeface="Arial"/>
              </a:rPr>
              <a:t>d. temperature of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14040"/>
            <a:ext cx="8229600" cy="5211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nside the human body, heat is constantly generated. When we get sick we sometimes get a fever, which is our bodies way of trying to maintain _______________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Energy</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Homeosta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rganizatio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Loco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914040"/>
            <a:ext cx="8229600" cy="5211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nside the human body, heat is constantly generated. When we get sick we sometimes get a fever, which is our bodies way of trying to maintain _______________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Energy</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ff0000"/>
                </a:solidFill>
                <a:latin typeface="Arial"/>
              </a:rPr>
              <a:t>. Homeosta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rganizatio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Loco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A hypothesis i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finite answer to a given probl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estable possible explanation of an observ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proven stat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concluding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A hypothesis i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finite answer to a given probl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b. testable possible explanation of an observ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proven stat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concluding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456840"/>
            <a:ext cx="8305920" cy="617220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lace the following steps of the scientific method in the proper order: (number 1-6) (</a:t>
            </a:r>
            <a:r>
              <a:rPr b="0" i="1" lang="en-US" sz="3200" spc="-1" strike="noStrike">
                <a:solidFill>
                  <a:srgbClr val="000000"/>
                </a:solidFill>
                <a:latin typeface="Arial"/>
              </a:rPr>
              <a:t>Hint: these steps may look a little different than the steps that we discussed in class)</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1</a:t>
            </a:r>
            <a:r>
              <a:rPr b="0" lang="en-US" sz="2800" spc="-1" strike="noStrike">
                <a:solidFill>
                  <a:srgbClr val="000000"/>
                </a:solidFill>
                <a:latin typeface="Arial"/>
              </a:rPr>
              <a:t>_______ Ask questions/mak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bservations/identify a problem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5</a:t>
            </a:r>
            <a:r>
              <a:rPr b="0" lang="en-US" sz="2800" spc="-1" strike="noStrike">
                <a:solidFill>
                  <a:srgbClr val="000000"/>
                </a:solidFill>
                <a:latin typeface="Arial"/>
              </a:rPr>
              <a:t>_______ Analyze data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6</a:t>
            </a:r>
            <a:r>
              <a:rPr b="0" lang="en-US" sz="2800" spc="-1" strike="noStrike">
                <a:solidFill>
                  <a:srgbClr val="000000"/>
                </a:solidFill>
                <a:latin typeface="Arial"/>
              </a:rPr>
              <a:t>_______ Make conclusions</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3</a:t>
            </a:r>
            <a:r>
              <a:rPr b="0" lang="en-US" sz="2800" spc="-1" strike="noStrike">
                <a:solidFill>
                  <a:srgbClr val="000000"/>
                </a:solidFill>
                <a:latin typeface="Arial"/>
              </a:rPr>
              <a:t>_______ Design an experiment</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2</a:t>
            </a:r>
            <a:r>
              <a:rPr b="0" lang="en-US" sz="2800" spc="-1" strike="noStrike">
                <a:solidFill>
                  <a:srgbClr val="000000"/>
                </a:solidFill>
                <a:latin typeface="Arial"/>
              </a:rPr>
              <a:t>_______ Make a hypothesis </a:t>
            </a:r>
            <a:endParaRPr b="0" lang="en-US" sz="2800" spc="-1" strike="noStrike">
              <a:solidFill>
                <a:srgbClr val="000000"/>
              </a:solidFill>
              <a:latin typeface="Arial"/>
            </a:endParaRPr>
          </a:p>
          <a:p>
            <a:pPr lvl="1" marL="960840" indent="-51732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4</a:t>
            </a:r>
            <a:r>
              <a:rPr b="0" lang="en-US" sz="2800" spc="-1" strike="noStrike">
                <a:solidFill>
                  <a:srgbClr val="000000"/>
                </a:solidFill>
                <a:latin typeface="Arial"/>
              </a:rPr>
              <a:t>_______ Gather and record dat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 planned procedure to test a hypothesis is called 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 planned procedure to test a hypothesis is called 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eri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2742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Biology is the study of __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2742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Biology is the study of </a:t>
            </a:r>
            <a:r>
              <a:rPr b="0" lang="en-US" sz="3200" spc="-1" strike="noStrike">
                <a:solidFill>
                  <a:srgbClr val="ff0000"/>
                </a:solidFill>
                <a:latin typeface="Arial"/>
              </a:rPr>
              <a:t>Life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daptations are features of organisms that allow them to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urvive in all environ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urvive in a particular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keep the same characteri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remain one-cell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daptations are features of organisms that allow them to____</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urvive in all environment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b. survive in a particular environmen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keep the same characteristic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remain one-cell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What is the </a:t>
            </a:r>
            <a:r>
              <a:rPr b="1" lang="en-US" sz="3200" spc="-1" strike="noStrike">
                <a:solidFill>
                  <a:srgbClr val="000000"/>
                </a:solidFill>
                <a:latin typeface="Arial"/>
              </a:rPr>
              <a:t>smallest unit of life</a:t>
            </a:r>
            <a:r>
              <a:rPr b="0" lang="en-US" sz="3200" spc="-1" strike="noStrike">
                <a:solidFill>
                  <a:srgbClr val="000000"/>
                </a:solidFill>
                <a:latin typeface="Arial"/>
              </a:rPr>
              <a:t> capable of carrying out all life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What is the </a:t>
            </a:r>
            <a:r>
              <a:rPr b="1" lang="en-US" sz="3200" spc="-1" strike="noStrike">
                <a:solidFill>
                  <a:srgbClr val="000000"/>
                </a:solidFill>
                <a:latin typeface="Arial"/>
              </a:rPr>
              <a:t>smallest unit of life</a:t>
            </a:r>
            <a:r>
              <a:rPr b="0" lang="en-US" sz="3200" spc="-1" strike="noStrike">
                <a:solidFill>
                  <a:srgbClr val="000000"/>
                </a:solidFill>
                <a:latin typeface="Arial"/>
              </a:rPr>
              <a:t> capable of carrying out all life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Plants make their own food through photosynthesis and are therefore called __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Plants make their own food through photosynthesis and are therefore called ____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utotrop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thing that is kept the same in all parts of an experiment is called 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Which of the following are examples of quant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pudding tastes AWE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he final pudding volume is 50 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pudding appears to be overcook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pudding is chocolate pud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Which of the following are examples of quant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pudding tastes AWE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r>
              <a:rPr b="0" lang="en-US" sz="3200" spc="-1" strike="noStrike">
                <a:solidFill>
                  <a:srgbClr val="ff0000"/>
                </a:solidFill>
                <a:latin typeface="Arial"/>
              </a:rPr>
              <a:t>The final pudding volume is 50 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pudding appears to be overcook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pudding is chocolate pud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From </a:t>
            </a:r>
            <a:r>
              <a:rPr b="1" lang="en-US" sz="3200" spc="-1" strike="noStrike" u="sng">
                <a:solidFill>
                  <a:srgbClr val="000000"/>
                </a:solidFill>
                <a:uFillTx/>
                <a:latin typeface="Arial"/>
              </a:rPr>
              <a:t>smallest to largest</a:t>
            </a:r>
            <a:r>
              <a:rPr b="0" lang="en-US" sz="3200" spc="-1" strike="noStrike">
                <a:solidFill>
                  <a:srgbClr val="000000"/>
                </a:solidFill>
                <a:latin typeface="Arial"/>
              </a:rPr>
              <a:t>, the levels of organization of living things are… (list the terms in the correct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system, tissue, cell, organism, org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From </a:t>
            </a:r>
            <a:r>
              <a:rPr b="1" lang="en-US" sz="3200" spc="-1" strike="noStrike" u="sng">
                <a:solidFill>
                  <a:srgbClr val="000000"/>
                </a:solidFill>
                <a:uFillTx/>
                <a:latin typeface="Arial"/>
              </a:rPr>
              <a:t>smallest to largest</a:t>
            </a:r>
            <a:r>
              <a:rPr b="0" lang="en-US" sz="3200" spc="-1" strike="noStrike">
                <a:solidFill>
                  <a:srgbClr val="000000"/>
                </a:solidFill>
                <a:latin typeface="Arial"/>
              </a:rPr>
              <a:t>, the levels of organization of living things are … (list the terms in the correct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ll, Tissue, Organ, Organ System, Orga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When enough experimental data supports a hypothesis, the hypothesis becomes a 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When enough experimental data supports a hypothesis, the hypothesis become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ory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imulus in this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imulus in this scen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ater currents from a moving pe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onse in this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onse in this scen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a lamprey attaches its mouth to the pe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thing that is kept the same in all parts of an experiment is called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ontrol group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ontro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bject A (the original itching pow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rimenta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rimenta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bject B (Experimental itching pow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dependent variable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dependent variable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ype of itching pow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pendent variable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pendent variable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ngth of itc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possible constants for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possible constants for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ount of powder used, allergies of test sub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aspect of an experiment summarizes the experiment and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666880"/>
            <a:ext cx="8229600" cy="13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Describe the difference between quantitative data and qual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990360"/>
            <a:ext cx="8229600" cy="513540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 Describe the difference between quantitative data and qualitative data.</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itative Data: numerical data (measurements of time, temperature, length, mass, area, etc.) </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litative Data: descriptions of what are senses detec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statement made at the end of an experiment summarizes the experiment and the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is located on the x-axis on a graph and is the variable that the experimenter contr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is located on the x-axis on a graph and is the variable that the experimenter contro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1:45:35Z</dcterms:created>
  <dc:creator>Beth</dc:creator>
  <dc:description/>
  <dc:language>en-US</dc:language>
  <cp:lastModifiedBy>Kate</cp:lastModifiedBy>
  <dcterms:modified xsi:type="dcterms:W3CDTF">2013-09-21T19:36:39Z</dcterms:modified>
  <cp:revision>7</cp:revision>
  <dc:subject/>
  <dc:title>Chapter 1 Review</dc:title>
</cp:coreProperties>
</file>